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comments/comment1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CROSSMARK Australia" initials="C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<Relationship Id="rId46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08-12-08T16:55:39.555000000" idx="1">
    <p:pos x="2778" y="477"/>
    <p:text>Update house imag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F65C-1288-42EE-9492-14EB1F9AB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7867-16EA-4A1F-ACF1-A5713E40FAB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dit this slide to “gray out” any of the modules listed if your PT course will not include the modules for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eeing Reason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nd/or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howing Evid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F61C-D12E-43C7-8824-3DF5FE708CE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AF30-0E82-47AF-B40D-8120FE6E211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1ACC-161B-47DB-89B9-8F7D3E81911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7904-51EB-4733-B069-DEDFEF1BD56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8D8F-BBAE-4EF5-BBB3-5E95A19B6FD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4189-A957-46C1-9469-E65408A91D4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43BF-E9A7-4C08-849B-DF45527D6C9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100C-8658-4E0B-B8FB-A02E617AE38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C00F-BACF-4CBC-88AF-AC5B252B3A7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5F29-2C61-44F1-866E-C30F747BAE3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CCBB-BC82-4617-A9EC-C258FB12762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B622-54A6-4E30-A068-31B83F5B10F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1E6A-AD57-4877-A581-0F286E4FE3F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2646-3C13-4A48-83FC-0BD1BC189B6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0ADE-BB7C-49E6-8804-E0934745B2C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1988-DE79-45AD-B9FD-112C1BD7F41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77C2-62C7-443D-BD08-14CEF8F2C24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3591-04B3-4A64-A5B8-1F316B37F75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D065-D102-443B-A508-438E3270D47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4331-9F93-4C1F-B23B-3EDD7B4798D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2A1B-D92E-4386-BA0E-AEDCD2B0885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not visit the web site now. Participants will try the tools later in module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50C6-A849-4D3F-81A8-A67710E8F6A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D86A-92D2-41D6-8876-875C4D54E64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44EF-5971-4E44-BDD8-03AD2AB5EFC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D2FA-38AB-48A4-8324-F41A2BA4B52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2EC4-F452-4240-B74D-6A5337BA706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 the link on the word “demo” to demonstrate the features of the tool before teachers open the Web site and try it out themselve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7856-5CBC-47FB-9DEE-E5E58A0D625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03A6-1393-4246-85D9-8298F275929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0121-961F-4105-B2F2-B08AF14FF1B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610B-D12D-4A94-BD1E-8D558E7A729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1DFE-6191-4166-AF01-F30105A2DB8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71B7-262A-46AF-A90D-AB17EE4B421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D9A0-2604-48A2-B8F5-0D4988E1BC6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248C-AFCF-4031-95EE-2B2F5603995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9298-0E89-4C9E-BF88-79D4976188F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F068-42E3-40B3-8A8A-F1B0AAE068C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D02E-6B0F-48C4-95A5-B0EAD881EFC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dit this slide to “gray out” Module 5 if your PT course will not include Module 5 for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Visual Rank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83C0-80D1-44DD-A9AC-B4F9A2A45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5837-3393-45F5-9B68-DB8DE4527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2E5B-D59E-4D72-BC84-9B36A6298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6702B-94BB-435D-BD33-00B14D66B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E91E-E8AA-4217-86AF-5DFC1E4D9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C5F9-DA66-42EE-8604-423FD1824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83E89-19BC-4FAA-949F-5E0206BBD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5EA70-EB37-4619-B8D3-33359CE10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D173-6FF2-4E20-821D-6D7F50429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C09E-72CF-4061-A88A-F54966263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67D80-B307-4037-A734-094C9EE62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C20AD-AD89-4275-B652-704487788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ADCF-C7F5-41AF-A0D2-71A009F65F4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30320" y="637056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1880" y="2152800"/>
            <a:ext cx="8301240" cy="2552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c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" TargetMode="External"/><Relationship Id="rId2" Type="http://schemas.openxmlformats.org/officeDocument/2006/relationships/hyperlink" Target="http://www.intel.com/education/au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visualrankin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eeingreason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howingevidenc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visualrankin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tmd.com.au/education/thinking/resources" TargetMode="External"/><Relationship Id="rId2" Type="http://schemas.openxmlformats.org/officeDocument/2006/relationships/hyperlink" Target="http://www.tmd.com.au/education/thinking/resource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tmd.com.au/education/thinking/resources" TargetMode="External"/><Relationship Id="rId2" Type="http://schemas.openxmlformats.org/officeDocument/2006/relationships/hyperlink" Target="http://www.tmd.com.au/education/thinking/resource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tmd.com.au/education/thinking/resources" TargetMode="External"/><Relationship Id="rId2" Type="http://schemas.openxmlformats.org/officeDocument/2006/relationships/hyperlink" Target="http://www.tmd.com.au/education/thinking/resource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seeingreason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eeingreason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tmd.com.au/education/thinking/resources" TargetMode="External"/><Relationship Id="rId2" Type="http://schemas.openxmlformats.org/officeDocument/2006/relationships/hyperlink" Target="http://www.tmd.com.au/education/thinking/resource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Intel</a:t>
            </a:r>
            <a:r>
              <a:rPr b="0" lang="en-US" sz="41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 Teach Program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5599080"/>
            <a:ext cx="8763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Version 2 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6E7D-C985-4DA6-9CF7-6D71FED0199A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4440" y="425160"/>
            <a:ext cx="8237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Course Content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continued)</a:t>
            </a:r>
            <a:endParaRPr b="1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12840" y="1074600"/>
          <a:ext cx="8237520" cy="4842000"/>
        </p:xfrm>
        <a:graphic>
          <a:graphicData uri="http://schemas.openxmlformats.org/drawingml/2006/table">
            <a:tbl>
              <a:tblPr/>
              <a:tblGrid>
                <a:gridCol w="1865160"/>
                <a:gridCol w="6372360"/>
              </a:tblGrid>
              <a:tr h="248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6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7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8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Visual Ranking Tool for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eeing Reason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eeing Reason Tool for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9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howing Evidence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0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howing Evidence Tool for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1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mpleting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2B41-0EC9-41F6-855A-B87431FD49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99F9-84BE-4F48-9703-732DF5B61C69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406080"/>
            <a:ext cx="823752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endParaRPr b="1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0040" y="1428480"/>
            <a:ext cx="43113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Objecti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84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the goals of the Intel</a:t>
            </a:r>
            <a:r>
              <a:rPr b="0" lang="en-US" sz="16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Teach Thinking with Technology course and your expecta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essential 21st century skills necessary for your students’ futur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nalyse different models of think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a “Teaching and Learning Taxonomy" for your classroo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ntify positive and negative influences that can affect thinking—from the perspective of a 21st century world citize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076400"/>
            <a:ext cx="4138560" cy="446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C72D9-BC87-4473-A654-735F82B40E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51D0-4FEE-4694-B393-05552F5589DA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roducing Yourself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– Module 1.01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7640" y="1634760"/>
            <a:ext cx="464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Your na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Year level and subject you tea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76960" y="2048040"/>
            <a:ext cx="285912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0719-123B-4074-A5E6-F2367D82D3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FE2F-03C0-4ADD-A87E-F52D30159878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roducing the Thinking Tools</a:t>
            </a:r>
            <a:br>
              <a:rPr sz="2400"/>
            </a:br>
            <a:br>
              <a:rPr sz="2400"/>
            </a:br>
            <a:br>
              <a:rPr sz="1800"/>
            </a:br>
            <a:br>
              <a:rPr sz="18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1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682280"/>
            <a:ext cx="85230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Previewing the Intel Education Web Site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–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.02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sit </a:t>
            </a: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</a:t>
            </a: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/education/au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451"/>
              </a:spcBef>
              <a:buNone/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endParaRPr b="0" lang="en-US" sz="9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Designing Effective Projec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Technology Litera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l® Education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Help Gui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98D6E-83E4-43DD-81F1-5E37556023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7A5E-1CF7-45BA-87F0-C2498F9EB1B2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5760" y="2012760"/>
            <a:ext cx="5548320" cy="37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Previewing the Thinking Tools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–</a:t>
            </a:r>
            <a:r>
              <a:rPr b="1" lang="en-US" sz="9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.0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stablish criteria to evaluate and prioritize inform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issues from multiple perspectives and make decisions by seeking consensus and negotiating new op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aborate with peers and community memb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35" name="Picture 5" descr="VR"/>
          <p:cNvPicPr/>
          <p:nvPr/>
        </p:nvPicPr>
        <p:blipFill>
          <a:blip r:embed="rId1"/>
          <a:stretch/>
        </p:blipFill>
        <p:spPr>
          <a:xfrm>
            <a:off x="6438960" y="2087640"/>
            <a:ext cx="2008080" cy="33526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roducing the Thinking Tools</a:t>
            </a:r>
            <a:br>
              <a:rPr sz="24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0B773-6162-451F-AD6D-ABC6BF92A7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8F08-4F63-42A9-AFF1-A897BF28A376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roducing the Thinking Tools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84200" y="153648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Previewing the Thinking Tools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–</a:t>
            </a:r>
            <a:r>
              <a:rPr b="1" lang="en-US" sz="11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.0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Open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visualranking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Review the home page and notice se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Examples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, and then click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Ideas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Discuss the use of </a:t>
            </a:r>
            <a:r>
              <a:rPr b="1" i="1" lang="en-US" sz="1600" spc="-1" strike="noStrike">
                <a:solidFill>
                  <a:srgbClr val="0860a8"/>
                </a:solidFill>
                <a:latin typeface="Verdana"/>
              </a:rPr>
              <a:t>Visual Ranking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in the Impact of Inventions project idea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ry the Too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, and then click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mo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Rank the list of inven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ompare lis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471C-1F17-44CC-88DE-241367387B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60CE-FD28-4BB4-819A-B21D4944BE20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17240" y="1617840"/>
            <a:ext cx="4087800" cy="39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nderstand complex problems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r systems that involve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ause-and-effect relationshi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, represent, and defend interpretations of problems or systems that involve cause and eff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mathematical reasoning and understanding across the curriculum through the use of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ogic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ritical thinking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Visual representation of direct and inverse relationship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2" name="Picture 5" descr="SR"/>
          <p:cNvPicPr/>
          <p:nvPr/>
        </p:nvPicPr>
        <p:blipFill>
          <a:blip r:embed="rId1"/>
          <a:stretch/>
        </p:blipFill>
        <p:spPr>
          <a:xfrm>
            <a:off x="4656240" y="1808280"/>
            <a:ext cx="4111560" cy="3289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roducing the Thinking Tools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712D-DABF-4E65-8316-91F7686BFF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B531-D437-4E6A-9978-9C268F23C285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roducing the Thinking Tools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87440" y="1528560"/>
            <a:ext cx="8237520" cy="44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Previewing the Thinking Tools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  <a:ea typeface="Times New Roman"/>
              </a:rPr>
              <a:t>(continued)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– Module 1.04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eeing Reas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Open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eeingreason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View overview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Examples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, and then click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Ideas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Discuss the use of </a:t>
            </a:r>
            <a:r>
              <a:rPr b="1" i="1" lang="en-US" sz="1600" spc="-1" strike="noStrike">
                <a:solidFill>
                  <a:srgbClr val="0860a8"/>
                </a:solidFill>
                <a:latin typeface="Verdana"/>
              </a:rPr>
              <a:t>Seeing Reason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in the Road Safety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unit plan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ry the Too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, and then click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mo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Practice reading the map, and double-click existing factors and relationship arrows to read the descrip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Experiment with the map by adding factors and relationship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F760-DE91-4321-8B3B-126BD0370D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AC13-ED3E-4742-BF58-5A8344B7E4A4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37760" y="1727280"/>
            <a:ext cx="370692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velop effective argumentation skill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velop strategies for encouraging discussion as students make claims, support claims with evidence, debate differences, and reach conclus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nalyse and evaluate criteria for their decis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365360" y="3133800"/>
            <a:ext cx="17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tandard vers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407840" y="571356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mplified vers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9" descr="SE-standard"/>
          <p:cNvPicPr/>
          <p:nvPr/>
        </p:nvPicPr>
        <p:blipFill>
          <a:blip r:embed="rId1"/>
          <a:stretch/>
        </p:blipFill>
        <p:spPr>
          <a:xfrm>
            <a:off x="4346640" y="1562040"/>
            <a:ext cx="4155840" cy="157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SE-simplified"/>
          <p:cNvPicPr/>
          <p:nvPr/>
        </p:nvPicPr>
        <p:blipFill>
          <a:blip r:embed="rId2"/>
          <a:stretch/>
        </p:blipFill>
        <p:spPr>
          <a:xfrm>
            <a:off x="4375080" y="3672000"/>
            <a:ext cx="4108680" cy="20048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roducing the Thinking Tools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C147-71DF-4017-B7EA-3A3600E7AA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856A-8105-4690-8FF8-6CE9C223E919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roducing the Thinking Tools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7428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Previewing the Thinking Tools</a:t>
            </a:r>
            <a:r>
              <a:rPr b="1" lang="en-US" sz="10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  <a:ea typeface="Times New Roman"/>
              </a:rPr>
              <a:t>(continued)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– Module 1.05</a:t>
            </a:r>
            <a:r>
              <a:rPr b="0" i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Open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howingeviden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View overview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ry the Too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, and then click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lementary Demo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Review the claim and evidence, and experiment with the cas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Go to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condary Demo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and experiment with the case.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Examples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nit Plans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Discuss the completed simplified </a:t>
            </a:r>
            <a:r>
              <a:rPr b="1" i="1" lang="en-US" sz="1600" spc="-1" strike="noStrike">
                <a:solidFill>
                  <a:srgbClr val="0860a8"/>
                </a:solidFill>
                <a:latin typeface="Verdana"/>
              </a:rPr>
              <a:t>Showing Evidence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project in the Jack and the Beanstalk unit plan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Review and discuss The Mysterious Malady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uni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39A3-80CC-447B-9EC5-A3D825BB69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F2D0-A5DB-4670-90C1-8AF2C55EE2DD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Course Overview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– Overview ii</a:t>
            </a:r>
            <a:endParaRPr b="1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Goal</a:t>
            </a:r>
            <a:br>
              <a:rPr sz="1800"/>
            </a:b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rticipants leave the course with a unit plan based on standards/syllabus outcomes, support materials, and implementation strategies to improve and assess students' higher order thinking with the use of free online tool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22200" y="3278160"/>
            <a:ext cx="8104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Course focuses 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36520" indent="-236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36520" indent="-236520"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internet in new and constructive ways with studen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36520" indent="-236520"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grating unique online thinking tools that enable students to visually represent their understanding of complex and interconnected issu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C9F83-1121-4009-97B2-B203AA293B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AA3E-0BD2-4DED-8F3D-B37ECF696B3D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(Optional) Activity 2b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tting Up Online Bookmarking Account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 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.06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30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30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79440" y="1819440"/>
            <a:ext cx="7537320" cy="22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25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cial bookmarking sites are web based methods of storing, sharing and searching internet bookmark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36520" indent="-236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36520" indent="-236520">
              <a:spcBef>
                <a:spcPts val="1125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structions for setting up an online bookmarking account with del.icio.us are on page 1.06 of the manu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36520" indent="-236520">
              <a:spcBef>
                <a:spcPts val="1125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3841-AFC2-4C0A-927D-CBD1CFC15D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532A-B11C-4A81-861B-67D8C985D0E1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xploring 21</a:t>
            </a:r>
            <a:r>
              <a:rPr b="0" lang="en-US" sz="2400" spc="-1" strike="noStrike" baseline="30000">
                <a:solidFill>
                  <a:srgbClr val="0860a8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Century Skills –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.07 – 1.10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30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30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60360" y="1542960"/>
            <a:ext cx="78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The 21</a:t>
            </a:r>
            <a:r>
              <a:rPr b="1" lang="en-US" sz="1800" spc="-1" strike="noStrike" baseline="30000">
                <a:solidFill>
                  <a:srgbClr val="0860a8"/>
                </a:solidFill>
                <a:latin typeface="Verdana"/>
              </a:rPr>
              <a:t>st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Century is Different Essential 21st century skill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(Partnership for 21st Century Skills, 2007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495360" y="2465280"/>
            <a:ext cx="7537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spcBef>
                <a:spcPts val="1125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re Subjects and 21st Century The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36520" indent="-236520">
              <a:spcBef>
                <a:spcPts val="1125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arning and Innovation Skil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36520" indent="-236520">
              <a:spcBef>
                <a:spcPts val="1125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formation, Media, and Technology Skil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36520" indent="-236520">
              <a:spcBef>
                <a:spcPts val="1125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ife and Career Skil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612E-253D-4DC7-A4CF-6C95A55B3E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41EC-2F5D-4390-9690-977E3B4D0406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99880" y="2144520"/>
            <a:ext cx="823752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the Visual Ranking Tool to consider the 21</a:t>
            </a:r>
            <a:r>
              <a:rPr b="0" lang="en-US" sz="1600" spc="-1" strike="noStrike" baseline="30000">
                <a:solidFill>
                  <a:srgbClr val="0860a8"/>
                </a:solidFill>
                <a:latin typeface="Verdana"/>
              </a:rPr>
              <a:t>s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entury skills our students need.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 you begin, go to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on the Intel</a:t>
            </a:r>
            <a:r>
              <a:rPr b="0" lang="en-US" sz="16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Education website at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visualranking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add to Favorites or your online bookmarking site, before proceeding with the activit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ep 3:  Discuss your ranking with a partn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492960" y="3174840"/>
            <a:ext cx="2555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98360" y="339480"/>
            <a:ext cx="8352000" cy="17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178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 </a:t>
            </a:r>
            <a:br>
              <a:rPr sz="24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Applying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 Complex Thinking to Complex Skills -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1.09 – 1.10</a:t>
            </a:r>
            <a:br>
              <a:rPr sz="1600"/>
            </a:br>
            <a:br>
              <a:rPr sz="1600"/>
            </a:b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A3F3A-5107-429E-BF4B-6D72241DFC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8866-0F6D-4619-8431-860088F35D4F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63600" y="1430280"/>
            <a:ext cx="8237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4: Group Discussion –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.10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ploring Thinking About 21</a:t>
            </a:r>
            <a:r>
              <a:rPr b="0" lang="en-US" sz="1800" spc="-1" strike="noStrike" baseline="30000">
                <a:solidFill>
                  <a:srgbClr val="0860a8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entury Ski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did you discuss with your partner?</a:t>
            </a:r>
            <a:br>
              <a:rPr sz="1800"/>
            </a:b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did your ranking differ from other teams?</a:t>
            </a:r>
            <a:br>
              <a:rPr sz="1800"/>
            </a:b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as your highest ranked item and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492960" y="3174840"/>
            <a:ext cx="2555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69560" y="244080"/>
            <a:ext cx="8380440" cy="167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178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B016A-6162-4E93-9158-ECB7818568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02FB-524F-4321-AC77-5EA9A82963AE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0944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Activity 3: Exploring 21</a:t>
            </a:r>
            <a:r>
              <a:rPr b="1" lang="en-US" sz="2800" spc="-1" strike="noStrike" baseline="30000">
                <a:solidFill>
                  <a:srgbClr val="0860a8"/>
                </a:solidFill>
                <a:latin typeface="Verdana"/>
              </a:rPr>
              <a:t>st</a:t>
            </a: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 Century Skill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57120" y="120780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4 (cont) 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Group Discussion – How do Thornburg’s ratings compare with yours? Are they different?  If so, why?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 Module 1.10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ix Most Wanted Workforce Ski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ccording to David Thornburg these ar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echnological Fluency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81%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unicatio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74%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eamwork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36%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eadership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34%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blem Solving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23%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ivity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22%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309A-3F3F-484B-9744-880B4B3F17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6B00-7E10-4D73-9521-BA4C5EFBAB7C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46240" y="1731960"/>
            <a:ext cx="8516880" cy="36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nking beyond level of knowledge acquisition is considered complex thinking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lex or higher order thinking includes the ability to work through new challenges with understanding and empathy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earch shows that instruction which encourages use of higher order thinking skills yields greater levels of student learning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arious models of thinking help educators and researchers to identify and categorise thinking skill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47240" y="216000"/>
            <a:ext cx="846612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178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4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derstanding Higher Order Thinking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.11</a:t>
            </a:r>
            <a:br>
              <a:rPr sz="1600"/>
            </a:b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5E1A0-AC8D-4374-98EA-A31540A430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BD77-37D2-40F1-89EE-17A96B366E69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ying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 Different Models of Thinking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br>
              <a:rPr sz="2600"/>
            </a:br>
            <a:r>
              <a:rPr b="0" lang="en-US" sz="12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1.12 – 1.18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5520" y="1815840"/>
            <a:ext cx="8516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Research on higher order thinking ski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upport of higher order thinking skills = greater levels of learning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Many models help identify and categorize thinking skills. You will use them to create targeted higher order thinking skills for your own classroom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loom’s Taxonomy of Thinking Skills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rzano’s Dimensions of Learn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sta and Kallick’s 16 Habits of Min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2B5E-0878-445B-BC8C-F9863B50C5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825B-2AAA-4262-835B-F15D3B31D324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9200" y="223560"/>
            <a:ext cx="82378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ying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 Different Models of Thinking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2760" y="1767960"/>
            <a:ext cx="81025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Step 1:  Understanding the Models of Thinking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1.12 – 1.13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pert Jigsaw Act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a cooperative group strategy to understand, share and consolidate ideas about the models of learning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(A large version of the Expert Jigsaw table can be downloaded from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md.com.au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/education/thinking/resources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fter the activity, participate in the whole group discussion and reflect on your learning (Step 2 – module 1.13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690D-3F1B-4696-AC0C-3108627C01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4ADE-778A-43DA-BE18-74588B51CE18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r>
              <a:rPr b="1" lang="en-AU" sz="2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200"/>
            </a:br>
            <a:r>
              <a:rPr b="1" lang="en-AU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0" lang="en-AU" sz="2400" spc="-1" strike="noStrike">
                <a:solidFill>
                  <a:srgbClr val="0860a8"/>
                </a:solidFill>
                <a:latin typeface="Verdana"/>
              </a:rPr>
              <a:t>Step 1: Understanding the Models of Thinking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5680" y="1581120"/>
            <a:ext cx="824724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At a Glance: Bloom’s Taxonomy of Thinking Ski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Categories cover all learning behaviours from simplest to most complex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Hierarchical system where highest thinking level include all skills from lower level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Two dimensional table includes the Knowledge Dimension and the Cognitive Process Dimens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9596-E1E0-47FA-B676-465666A7443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ABF9-0DDC-4E79-8B41-EDB18745275A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r>
              <a:rPr b="1" lang="en-AU" sz="2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200"/>
            </a:br>
            <a:r>
              <a:rPr b="1" lang="en-AU" sz="22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200"/>
            </a:br>
            <a:r>
              <a:rPr b="1" lang="en-AU" sz="1800" spc="-1" strike="noStrike">
                <a:solidFill>
                  <a:srgbClr val="0860a8"/>
                </a:solidFill>
                <a:latin typeface="Verdana"/>
              </a:rPr>
              <a:t>Step 1: Understanding Different Models of Thinking</a:t>
            </a:r>
            <a:endParaRPr b="1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760" y="1447560"/>
            <a:ext cx="8237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At a Glance: Marzano’s Dimensions of Learn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tegories do not build upon each other in a hierarchical fash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cognitive category is just as important as the oth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ategories are worthy of focus and inclusion within a unit of stud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5706F-D955-451D-8745-6152D6C7456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14E8-2DE5-440A-916C-28B0782D5D5E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434880"/>
            <a:ext cx="823752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Overview of the Intel</a:t>
            </a:r>
            <a:r>
              <a:rPr b="1" lang="en-US" sz="20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Education Web Site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– Overview iii</a:t>
            </a:r>
            <a:endParaRPr b="1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55400"/>
            <a:ext cx="82375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thinking too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online productivity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Assessing Project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l® Education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Help Gui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21641-DE30-417E-80C0-0600CC5C0A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2B6E-5B1C-4085-8CA7-2CC6E7C02EA2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351640" cy="13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r>
              <a:rPr b="1" lang="en-AU" sz="2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200"/>
            </a:br>
            <a:br>
              <a:rPr sz="2200"/>
            </a:br>
            <a:r>
              <a:rPr b="1" lang="en-AU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1" lang="en-AU" sz="1800" spc="-1" strike="noStrike">
                <a:solidFill>
                  <a:srgbClr val="0860a8"/>
                </a:solidFill>
                <a:latin typeface="Verdana"/>
              </a:rPr>
              <a:t>Step 1: Understanding Different Models of Thinking</a:t>
            </a:r>
            <a:endParaRPr b="1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79440" y="1609560"/>
            <a:ext cx="83138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At a Glance: Costa and Kallick’s 16 Habits of Min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vide a definition of habits that are required to meet “challenging conditions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ntify habits that help students resolve complex problems, such 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rategic reason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sightfulnes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erseveran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iv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aftsmanshi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81B61-8E59-4323-8299-9239334DF67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D253-EE50-4788-AE50-B9F7D45F4964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r>
              <a:rPr b="1" lang="en-AU" sz="2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200"/>
            </a:br>
            <a:br>
              <a:rPr sz="2200"/>
            </a:br>
            <a:r>
              <a:rPr b="1" lang="en-AU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1" lang="en-AU" sz="1800" spc="-1" strike="noStrike">
                <a:solidFill>
                  <a:srgbClr val="0860a8"/>
                </a:solidFill>
                <a:latin typeface="Verdana"/>
              </a:rPr>
              <a:t>Step 2: Reflecting on your learning</a:t>
            </a:r>
            <a:r>
              <a:rPr b="0" lang="en-AU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AU" sz="1200" spc="-1" strike="noStrike">
                <a:solidFill>
                  <a:srgbClr val="0860a8"/>
                </a:solidFill>
                <a:latin typeface="Verdana"/>
              </a:rPr>
              <a:t>Module 1.13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22280" y="199188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Group Discussion:  Reflecting on your Learn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can cooperative learning strategies help the learning of the expert and the student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might these models of thinking and learning support or develop your students’ higher order thinking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at links do you see between these models and the 21sts century skills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C63AA-53A6-42DB-BE3B-8BA0BA8BEDC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1756-EC97-462B-941C-E6A457958576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reating Your Own Teaching and Learning Taxonomy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1.19 – 1.20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6200" y="1920600"/>
            <a:ext cx="823788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ider the three models of thinking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You may also wish to review the summary of Wiggins and McTighe’s Six Facets of Understanding and an extended explanation of Bloom’s Revised Taxonomy available from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md.com.au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/education/thinking/resour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hoose a visual organizer that meets your nee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one of the organizers to define and organize the thinking skills/and or habits you would like your students to develop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286D-61CB-421A-8DB7-DECF3E81B3E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B56B-6B33-43FD-A282-58AA46CFDF6C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7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viewing the Unit Plan Template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500"/>
            </a:b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.21 – 1.27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42440" y="2039760"/>
            <a:ext cx="846612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the components of the Unit Plan Templat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a folder for all your docum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ownload the Unit Plan Templa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- Go to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md.com.au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/education/thinking/resour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- Save this address in your “Favourites’ or online bookmarking si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- Save the Unit Plan Template into your new fol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e your Teaching and Learning Taxonomy, and save in your fol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8DEC-3BBC-4603-948F-8064B8AB492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9795-55FB-4FF3-BCF2-2BBDE6A5222F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8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upporting Deeper Thinking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6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Understanding the Seeing Reason Tool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 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.28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760" y="2236320"/>
            <a:ext cx="823752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04920" indent="-304920">
              <a:spcBef>
                <a:spcPts val="400"/>
              </a:spcBef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Understand the features of the </a:t>
            </a:r>
            <a:r>
              <a:rPr b="1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04920" indent="-304920">
              <a:spcBef>
                <a:spcPts val="400"/>
              </a:spcBef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View a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demo</a:t>
            </a:r>
            <a:r>
              <a:rPr b="0" lang="en-US" sz="1600" spc="-1" strike="noStrike" u="sng">
                <a:solidFill>
                  <a:srgbClr val="0860a8"/>
                </a:solidFill>
                <a:uFillTx/>
                <a:latin typeface="Verdana"/>
              </a:rPr>
              <a:t> of the </a:t>
            </a:r>
            <a:r>
              <a:rPr b="1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04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07" name="Picture 8" descr="sr-module1"/>
          <p:cNvPicPr/>
          <p:nvPr/>
        </p:nvPicPr>
        <p:blipFill>
          <a:blip r:embed="rId2"/>
          <a:stretch/>
        </p:blipFill>
        <p:spPr>
          <a:xfrm>
            <a:off x="2462040" y="3586320"/>
            <a:ext cx="4086360" cy="168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6A7B8-C311-4689-A4BC-4362C9AE339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967E-AF38-44C5-8497-E9E919C4DDC2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39200" y="1603440"/>
            <a:ext cx="823788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93760" indent="-2937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After viewing the demo, go to </a:t>
            </a:r>
            <a:r>
              <a:rPr b="1" i="1" lang="en-US" sz="1600" spc="-1" strike="noStrike">
                <a:solidFill>
                  <a:srgbClr val="0860a8"/>
                </a:solidFill>
                <a:latin typeface="Verdana"/>
              </a:rPr>
              <a:t>Seeing Reason: </a:t>
            </a:r>
            <a:r>
              <a:rPr b="0" i="1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eeingreason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93760" indent="-2937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Add to your Favorit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93760" indent="-2937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udent Log-In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93760" indent="-293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From the perspective of a 21st century citizen, explore answers to the question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9376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hat influences deeper thinking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93760" indent="-2937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Work with a partner –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69372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d several factors and relationshi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69372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ave your map period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69372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ave your final map in your portfol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693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93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6588000" y="3048120"/>
            <a:ext cx="255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8</a:t>
            </a:r>
            <a:br>
              <a:rPr sz="24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Exploring Deeper Levels of Thinking with the Seeing Reason Tool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.29 – 1.30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5053-D3B9-4C24-BC09-051489A9E5D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DDFE-5698-4949-9D4C-17810A496CEC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8</a:t>
            </a:r>
            <a:br>
              <a:rPr sz="24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Group Discussion – Reflecting on Map-Building -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.30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760" y="174600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fter the mapping activity, discuss with the group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d you and your partner immediately agree on what to map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at did you talk about as you created your map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d viewing other teams’ thinking skills maps give you other ideas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has this activity changed or increased your understanding of what leads to deeper thinking and what can hinder it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0B3F-44C6-42C1-A7A5-41BDF6C06D3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0DE8-64DB-4401-AE12-8174E299015E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Extension Activity: Thinking in the Classroom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.31 – 1.32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Step 1: Taking a Look into Two Classroom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860a8"/>
                </a:solidFill>
                <a:latin typeface="Verdana"/>
              </a:rPr>
              <a:t>Reflect on the differences between classrooms described in two sets of vignet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Step 2: Reflecting on Your Own Classroo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860a8"/>
                </a:solidFill>
                <a:latin typeface="Verdana"/>
              </a:rPr>
              <a:t>Complete a survey about your classroom environment, methods of modelling and coaching and your students’ active engagement in learn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860a8"/>
                </a:solidFill>
                <a:latin typeface="Verdana"/>
              </a:rPr>
              <a:t>You will need to download ‘Taking A Look Into Two Classrooms’ and ‘Reflecting On Your Own Classroom’ – from the Extension Activities folder a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md.com.au</a:t>
            </a:r>
            <a:r>
              <a:rPr b="0" lang="en-AU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/education/thinking/resour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62180-0A3F-4412-9198-58AD5DA8B13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A164-E1BD-448F-937D-6BBD1167CC5F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: Targeting Thinking in the Classroom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Summary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-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.34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4041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504720" y="1514520"/>
          <a:ext cx="8126640" cy="3290760"/>
        </p:xfrm>
        <a:graphic>
          <a:graphicData uri="http://schemas.openxmlformats.org/drawingml/2006/table">
            <a:tbl>
              <a:tblPr/>
              <a:tblGrid>
                <a:gridCol w="81266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1 Key Poi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29224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e essential skills needed to be successful in the future go beyond basic literacy. Students must also be able t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569880" indent="-28260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d critical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569880" indent="-28260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Write persuasive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569880" indent="-28260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ink and reason logical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569880" indent="-28260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olve complex problem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569880" indent="-28260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Have other such skills, such as those defined by the Partnership for 21st Century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search is clear that instruction that builds on and encourages higher order thinking skills results in greater levels of student learnin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E8ACE-DA85-4C8B-9135-7DDAABD315A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C416-C186-4AA1-86D5-FFD5FF0CB1D3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Next Module</a:t>
            </a:r>
            <a:br>
              <a:rPr sz="2400"/>
            </a:br>
            <a:br>
              <a:rPr sz="2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2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74480" y="1342800"/>
            <a:ext cx="821844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Designing Projec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steps for project plann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ntify standards/syllabus outcomes that target higher order thinking skill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ways to use a project-based approach to learn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ntify influences that affect deeper thinking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0529-BA2A-4080-BB12-424B99207C0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1D44-30E1-4F4F-9B1F-22AECE2C8755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406080"/>
            <a:ext cx="823752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Course Overview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– Overview iv</a:t>
            </a:r>
            <a:endParaRPr b="1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001520"/>
            <a:ext cx="823752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65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urse Objecti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earn instructional strategies for addressing and assessing thinking skills using technology to increase opportunities for effective student collaboration, student-teacher interactions,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nd the inquiry proces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an instructional plan, sample projects, and assessments that integrate the use of online thinking tools, align to standards/syllabus outcomes, and support a project approach to learning and authentic inquiry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nderstand the online teaching tools and their workspaces, and how to manage a classroom project using an online environ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6520" indent="-23652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eave prepared to effectively implement a ready-to-use project using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, Seeing Reason,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nd/or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ools, which will help your students to manage, explore, and communicate their understanding of complex and interconnected issu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AACD-FD73-4ED7-88ED-D94457F6C9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65480" y="2084400"/>
            <a:ext cx="4500360" cy="22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2AD9-B28F-44EC-8B67-75E0A07B2D6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0D3D-5A2A-4626-B426-77756AF0DB65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Master Trainer Roles</a:t>
            </a:r>
            <a:endParaRPr b="1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760" y="1174320"/>
            <a:ext cx="8237520" cy="496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rticipate fully in the MT training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cruit Participant Teach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rder and distribute curricular materials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t up training logistics, and ensure lab and online projects are read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rain at least 10 Participant Teach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590400" indent="-24444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tent can be configured to feature any of the thinking tools (one, two, or three tools), which ranges from 24–40 hours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590400" indent="-24444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liver training within 4 months of start dat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590400" indent="-24444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e training within 12 months of Master Trainer train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590400" indent="-24444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inimum recommended schedule for the full 40-hour course is two week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ist in evaluation and follow-up repor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02C0-863B-4038-AC02-FBC96BB0F0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B966-D59D-4D1D-BC11-F564EB60E492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463320"/>
            <a:ext cx="8237520" cy="6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Role of Department of Education</a:t>
            </a:r>
            <a:endParaRPr b="1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2716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chedule Master Trainer courses and communicate information about these trainings to schools and stakehold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-22716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ordinate training logistics with Senior Trainers, the Regional Training Agency and venues/training lab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-22716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ceive and approve applications for the Master Trainer courses and communicate details about preparing for the course/times and venue detail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-22716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vide support to Master Trainers and schools participating in the Intel® Teach Program.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-22716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ordinate with the Regional Training Agency the supply of training manuals and materials for Master Trainer and Participant Teacher cours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C58FD-C323-4B68-9113-BA692E1912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440F-B4EB-4D25-8E3D-1BD0EE97ECAF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463320"/>
            <a:ext cx="8237520" cy="6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Role of Regional Training Agency (RTA)</a:t>
            </a:r>
            <a:endParaRPr b="1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2716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agement of Intel® Teach Program in Australi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-22716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ordination of training schedules with Department of Education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-22716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ordination of Master Trainer training logistics with Senior Trainer, Department of Education – including catering, training material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-22716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vision of training materials to Master Trainers for Participant Teacher training – and mailing of completion certificates to Master Trainers upon online reque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-22716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vide technical and general support to teachers participating in the program and using the Thinking Tools and Australian Intel® Education websi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BF356-8B1E-4185-BB7A-2CB6E9D749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D6A3-0972-403F-90E4-E0A9FC13AF1D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Building the Unit through the Modules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– Overview v</a:t>
            </a:r>
            <a:endParaRPr b="1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4136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dular format allows a choice of schedules and thinking tool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n image appears on the back of each module divider to serve as a map to show you where you have been and where you are going.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a6cae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cae1"/>
                </a:solidFill>
                <a:latin typeface="Verdana"/>
              </a:rPr>
              <a:t>Half-tone colo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= sections you have not yet star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a6cae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cae1"/>
                </a:solidFill>
                <a:latin typeface="Verdana"/>
              </a:rPr>
              <a:t>Whit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= module and work currently under wa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a6cae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cae1"/>
                </a:solidFill>
                <a:latin typeface="Verdana"/>
              </a:rPr>
              <a:t>Dark color with white tex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= completed sections (or optional modules not included in your cours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62560" y="733320"/>
            <a:ext cx="4681440" cy="468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E0F3-1A5E-4081-82AA-F8C07873B8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BD9C-634B-490D-84B5-DB8D10EEB77F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520560"/>
            <a:ext cx="8237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Course Conten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– Overview vi</a:t>
            </a:r>
            <a:endParaRPr b="1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25520" y="1403280"/>
          <a:ext cx="8237520" cy="4459320"/>
        </p:xfrm>
        <a:graphic>
          <a:graphicData uri="http://schemas.openxmlformats.org/drawingml/2006/table">
            <a:tbl>
              <a:tblPr/>
              <a:tblGrid>
                <a:gridCol w="1754280"/>
                <a:gridCol w="6483240"/>
              </a:tblGrid>
              <a:tr h="628560"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s covered in this cours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9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argeting Thinking in the Classroo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2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esigning Projec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3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ng Curriculum Framing Questions to Suppor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4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lanning Student-Centered Assess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71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5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Visual Ranking Tool to Target Thinking Skill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1FD6-F22D-48B7-8ECB-D2C5BA533B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stephanie.georges</cp:lastModifiedBy>
  <dcterms:modified xsi:type="dcterms:W3CDTF">2009-01-21T03:13:52Z</dcterms:modified>
  <cp:revision>94</cp:revision>
  <dc:subject/>
  <dc:title>Presentation Title Goes Here</dc:title>
</cp:coreProperties>
</file>